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2A9C9-7F3B-473E-9A34-1E25D2A78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520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33987-1444-4CA3-BD17-2935FE1B6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B6E49-73C4-4FFB-9996-FAB717AF1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CBE0F-9442-4E1A-A54B-9F8DC2FB3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55978-9142-459D-A0E1-D21A2BAB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44F58-D291-4E46-A68E-4525D337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F8185-A731-4581-85F7-EDE052B2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33DDE-5EDD-498D-BB98-020D500A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EE48C-E59D-4610-86C9-ECD45B55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225D9-E7BE-4B76-94A9-1C06B61A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F9952-726C-4887-BA0E-FEFDF2E8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043B7-E641-4A62-9329-DF943AF78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2A8EF-5171-4AAE-AD48-6899AB25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E9DB9-2828-45A6-8A20-507C708E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9520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41D0E-0C4B-4C51-A878-A0BD57D2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66B17-AC08-45B4-848B-6AB1702A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4812F-B282-4173-894C-D6C37001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ADBB8-F7F8-4C9F-9BE4-2A438D4B4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E7524-512E-42CC-A71E-76AF2B097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F9E59-9F69-4BF2-9696-FF6DB932E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42A08-2081-46FF-A7ED-2DA4EF6B2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AF8A2-2444-4AEC-B32B-E3176D124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CDCA7-2756-4F59-AD64-59D0FB115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DA5F5-D577-4C87-B35F-1F4ECA8C8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4000" y="34920"/>
            <a:ext cx="9037440" cy="6773760"/>
          </a:xfrm>
          <a:custGeom>
            <a:avLst/>
            <a:gdLst/>
            <a:ahLst/>
            <a:rect l="l" t="t" r="r" b="b"/>
            <a:pathLst>
              <a:path w="5693" h="4267">
                <a:moveTo>
                  <a:pt x="2297" y="55"/>
                </a:moveTo>
                <a:cubicBezTo>
                  <a:pt x="2351" y="47"/>
                  <a:pt x="2421" y="72"/>
                  <a:pt x="2505" y="116"/>
                </a:cubicBezTo>
                <a:cubicBezTo>
                  <a:pt x="2588" y="159"/>
                  <a:pt x="2709" y="313"/>
                  <a:pt x="2798" y="314"/>
                </a:cubicBezTo>
                <a:cubicBezTo>
                  <a:pt x="2886" y="314"/>
                  <a:pt x="2974" y="153"/>
                  <a:pt x="3038" y="122"/>
                </a:cubicBezTo>
                <a:cubicBezTo>
                  <a:pt x="3101" y="90"/>
                  <a:pt x="3150" y="106"/>
                  <a:pt x="3182" y="122"/>
                </a:cubicBezTo>
                <a:cubicBezTo>
                  <a:pt x="3214" y="138"/>
                  <a:pt x="3222" y="178"/>
                  <a:pt x="3230" y="218"/>
                </a:cubicBezTo>
                <a:cubicBezTo>
                  <a:pt x="3237" y="257"/>
                  <a:pt x="3214" y="330"/>
                  <a:pt x="3230" y="362"/>
                </a:cubicBezTo>
                <a:cubicBezTo>
                  <a:pt x="3246" y="394"/>
                  <a:pt x="3294" y="410"/>
                  <a:pt x="3326" y="410"/>
                </a:cubicBezTo>
                <a:cubicBezTo>
                  <a:pt x="3358" y="410"/>
                  <a:pt x="3390" y="402"/>
                  <a:pt x="3422" y="362"/>
                </a:cubicBezTo>
                <a:cubicBezTo>
                  <a:pt x="3454" y="322"/>
                  <a:pt x="3478" y="225"/>
                  <a:pt x="3518" y="170"/>
                </a:cubicBezTo>
                <a:cubicBezTo>
                  <a:pt x="3557" y="114"/>
                  <a:pt x="3593" y="51"/>
                  <a:pt x="3662" y="26"/>
                </a:cubicBezTo>
                <a:cubicBezTo>
                  <a:pt x="3730" y="0"/>
                  <a:pt x="3859" y="2"/>
                  <a:pt x="3928" y="16"/>
                </a:cubicBezTo>
                <a:cubicBezTo>
                  <a:pt x="3996" y="29"/>
                  <a:pt x="4038" y="51"/>
                  <a:pt x="4074" y="109"/>
                </a:cubicBezTo>
                <a:cubicBezTo>
                  <a:pt x="4109" y="166"/>
                  <a:pt x="4102" y="301"/>
                  <a:pt x="4142" y="362"/>
                </a:cubicBezTo>
                <a:cubicBezTo>
                  <a:pt x="4181" y="422"/>
                  <a:pt x="4245" y="454"/>
                  <a:pt x="4312" y="470"/>
                </a:cubicBezTo>
                <a:cubicBezTo>
                  <a:pt x="4378" y="485"/>
                  <a:pt x="4483" y="480"/>
                  <a:pt x="4543" y="455"/>
                </a:cubicBezTo>
                <a:cubicBezTo>
                  <a:pt x="4602" y="429"/>
                  <a:pt x="4624" y="369"/>
                  <a:pt x="4670" y="314"/>
                </a:cubicBezTo>
                <a:cubicBezTo>
                  <a:pt x="4715" y="258"/>
                  <a:pt x="4749" y="170"/>
                  <a:pt x="4814" y="122"/>
                </a:cubicBezTo>
                <a:cubicBezTo>
                  <a:pt x="4878" y="73"/>
                  <a:pt x="4966" y="42"/>
                  <a:pt x="5054" y="26"/>
                </a:cubicBezTo>
                <a:cubicBezTo>
                  <a:pt x="5142" y="10"/>
                  <a:pt x="5254" y="2"/>
                  <a:pt x="5342" y="26"/>
                </a:cubicBezTo>
                <a:cubicBezTo>
                  <a:pt x="5430" y="50"/>
                  <a:pt x="5526" y="106"/>
                  <a:pt x="5582" y="170"/>
                </a:cubicBezTo>
                <a:cubicBezTo>
                  <a:pt x="5638" y="234"/>
                  <a:pt x="5662" y="346"/>
                  <a:pt x="5678" y="410"/>
                </a:cubicBezTo>
                <a:cubicBezTo>
                  <a:pt x="5693" y="473"/>
                  <a:pt x="5687" y="497"/>
                  <a:pt x="5678" y="554"/>
                </a:cubicBezTo>
                <a:cubicBezTo>
                  <a:pt x="5668" y="610"/>
                  <a:pt x="5644" y="691"/>
                  <a:pt x="5620" y="747"/>
                </a:cubicBezTo>
                <a:cubicBezTo>
                  <a:pt x="5596" y="803"/>
                  <a:pt x="5563" y="838"/>
                  <a:pt x="5534" y="890"/>
                </a:cubicBezTo>
                <a:cubicBezTo>
                  <a:pt x="5504" y="941"/>
                  <a:pt x="5472" y="987"/>
                  <a:pt x="5443" y="1055"/>
                </a:cubicBezTo>
                <a:cubicBezTo>
                  <a:pt x="5413" y="1122"/>
                  <a:pt x="5383" y="1226"/>
                  <a:pt x="5359" y="1293"/>
                </a:cubicBezTo>
                <a:cubicBezTo>
                  <a:pt x="5334" y="1359"/>
                  <a:pt x="5300" y="1403"/>
                  <a:pt x="5297" y="1455"/>
                </a:cubicBezTo>
                <a:cubicBezTo>
                  <a:pt x="5293" y="1506"/>
                  <a:pt x="5320" y="1559"/>
                  <a:pt x="5336" y="1601"/>
                </a:cubicBezTo>
                <a:cubicBezTo>
                  <a:pt x="5351" y="1642"/>
                  <a:pt x="5348" y="1656"/>
                  <a:pt x="5390" y="1706"/>
                </a:cubicBezTo>
                <a:cubicBezTo>
                  <a:pt x="5431" y="1755"/>
                  <a:pt x="5542" y="1842"/>
                  <a:pt x="5582" y="1898"/>
                </a:cubicBezTo>
                <a:cubicBezTo>
                  <a:pt x="5621" y="1953"/>
                  <a:pt x="5630" y="1978"/>
                  <a:pt x="5630" y="2042"/>
                </a:cubicBezTo>
                <a:cubicBezTo>
                  <a:pt x="5630" y="2106"/>
                  <a:pt x="5621" y="2218"/>
                  <a:pt x="5582" y="2282"/>
                </a:cubicBezTo>
                <a:cubicBezTo>
                  <a:pt x="5542" y="2345"/>
                  <a:pt x="5453" y="2394"/>
                  <a:pt x="5390" y="2426"/>
                </a:cubicBezTo>
                <a:cubicBezTo>
                  <a:pt x="5326" y="2457"/>
                  <a:pt x="5237" y="2450"/>
                  <a:pt x="5198" y="2474"/>
                </a:cubicBezTo>
                <a:cubicBezTo>
                  <a:pt x="5158" y="2497"/>
                  <a:pt x="5134" y="2538"/>
                  <a:pt x="5150" y="2570"/>
                </a:cubicBezTo>
                <a:cubicBezTo>
                  <a:pt x="5166" y="2602"/>
                  <a:pt x="5246" y="2626"/>
                  <a:pt x="5294" y="2666"/>
                </a:cubicBezTo>
                <a:cubicBezTo>
                  <a:pt x="5342" y="2706"/>
                  <a:pt x="5422" y="2762"/>
                  <a:pt x="5438" y="2810"/>
                </a:cubicBezTo>
                <a:cubicBezTo>
                  <a:pt x="5453" y="2857"/>
                  <a:pt x="5406" y="2922"/>
                  <a:pt x="5390" y="2954"/>
                </a:cubicBezTo>
                <a:cubicBezTo>
                  <a:pt x="5374" y="2986"/>
                  <a:pt x="5349" y="2978"/>
                  <a:pt x="5342" y="3002"/>
                </a:cubicBezTo>
                <a:cubicBezTo>
                  <a:pt x="5334" y="3025"/>
                  <a:pt x="5326" y="3058"/>
                  <a:pt x="5342" y="3098"/>
                </a:cubicBezTo>
                <a:cubicBezTo>
                  <a:pt x="5358" y="3138"/>
                  <a:pt x="5398" y="3186"/>
                  <a:pt x="5438" y="3242"/>
                </a:cubicBezTo>
                <a:cubicBezTo>
                  <a:pt x="5477" y="3297"/>
                  <a:pt x="5542" y="3370"/>
                  <a:pt x="5582" y="3434"/>
                </a:cubicBezTo>
                <a:cubicBezTo>
                  <a:pt x="5621" y="3497"/>
                  <a:pt x="5670" y="3546"/>
                  <a:pt x="5678" y="3626"/>
                </a:cubicBezTo>
                <a:cubicBezTo>
                  <a:pt x="5686" y="3706"/>
                  <a:pt x="5670" y="3834"/>
                  <a:pt x="5630" y="3914"/>
                </a:cubicBezTo>
                <a:cubicBezTo>
                  <a:pt x="5590" y="3994"/>
                  <a:pt x="5502" y="4057"/>
                  <a:pt x="5438" y="4106"/>
                </a:cubicBezTo>
                <a:cubicBezTo>
                  <a:pt x="5373" y="4154"/>
                  <a:pt x="5317" y="4178"/>
                  <a:pt x="5246" y="4202"/>
                </a:cubicBezTo>
                <a:cubicBezTo>
                  <a:pt x="5174" y="4225"/>
                  <a:pt x="5086" y="4242"/>
                  <a:pt x="5006" y="4250"/>
                </a:cubicBezTo>
                <a:cubicBezTo>
                  <a:pt x="4926" y="4258"/>
                  <a:pt x="4860" y="4256"/>
                  <a:pt x="4766" y="4250"/>
                </a:cubicBezTo>
                <a:cubicBezTo>
                  <a:pt x="4671" y="4243"/>
                  <a:pt x="4528" y="4230"/>
                  <a:pt x="4436" y="4209"/>
                </a:cubicBezTo>
                <a:cubicBezTo>
                  <a:pt x="4343" y="4188"/>
                  <a:pt x="4270" y="4170"/>
                  <a:pt x="4212" y="4124"/>
                </a:cubicBezTo>
                <a:cubicBezTo>
                  <a:pt x="4153" y="4077"/>
                  <a:pt x="4121" y="4003"/>
                  <a:pt x="4082" y="3932"/>
                </a:cubicBezTo>
                <a:cubicBezTo>
                  <a:pt x="4042" y="3860"/>
                  <a:pt x="4015" y="3700"/>
                  <a:pt x="3974" y="3693"/>
                </a:cubicBezTo>
                <a:cubicBezTo>
                  <a:pt x="3932" y="3685"/>
                  <a:pt x="3896" y="3827"/>
                  <a:pt x="3835" y="3886"/>
                </a:cubicBezTo>
                <a:cubicBezTo>
                  <a:pt x="3773" y="3944"/>
                  <a:pt x="3689" y="3995"/>
                  <a:pt x="3605" y="4047"/>
                </a:cubicBezTo>
                <a:cubicBezTo>
                  <a:pt x="3520" y="4098"/>
                  <a:pt x="3406" y="4167"/>
                  <a:pt x="3328" y="4193"/>
                </a:cubicBezTo>
                <a:cubicBezTo>
                  <a:pt x="3249" y="4218"/>
                  <a:pt x="3206" y="4216"/>
                  <a:pt x="3134" y="4202"/>
                </a:cubicBezTo>
                <a:cubicBezTo>
                  <a:pt x="3061" y="4187"/>
                  <a:pt x="2966" y="4138"/>
                  <a:pt x="2894" y="4106"/>
                </a:cubicBezTo>
                <a:cubicBezTo>
                  <a:pt x="2821" y="4073"/>
                  <a:pt x="2757" y="4029"/>
                  <a:pt x="2702" y="4010"/>
                </a:cubicBezTo>
                <a:cubicBezTo>
                  <a:pt x="2646" y="3990"/>
                  <a:pt x="2610" y="3973"/>
                  <a:pt x="2558" y="3986"/>
                </a:cubicBezTo>
                <a:cubicBezTo>
                  <a:pt x="2505" y="3998"/>
                  <a:pt x="2463" y="4066"/>
                  <a:pt x="2389" y="4086"/>
                </a:cubicBezTo>
                <a:cubicBezTo>
                  <a:pt x="2314" y="4105"/>
                  <a:pt x="2187" y="4121"/>
                  <a:pt x="2112" y="4101"/>
                </a:cubicBezTo>
                <a:cubicBezTo>
                  <a:pt x="2036" y="4080"/>
                  <a:pt x="2008" y="3990"/>
                  <a:pt x="1934" y="3962"/>
                </a:cubicBezTo>
                <a:cubicBezTo>
                  <a:pt x="1859" y="3933"/>
                  <a:pt x="1738" y="3924"/>
                  <a:pt x="1666" y="3932"/>
                </a:cubicBezTo>
                <a:cubicBezTo>
                  <a:pt x="1594" y="3940"/>
                  <a:pt x="1553" y="3973"/>
                  <a:pt x="1502" y="4010"/>
                </a:cubicBezTo>
                <a:cubicBezTo>
                  <a:pt x="1450" y="4046"/>
                  <a:pt x="1413" y="4114"/>
                  <a:pt x="1358" y="4154"/>
                </a:cubicBezTo>
                <a:cubicBezTo>
                  <a:pt x="1302" y="4193"/>
                  <a:pt x="1238" y="4234"/>
                  <a:pt x="1166" y="4250"/>
                </a:cubicBezTo>
                <a:cubicBezTo>
                  <a:pt x="1094" y="4266"/>
                  <a:pt x="1015" y="4267"/>
                  <a:pt x="926" y="4250"/>
                </a:cubicBezTo>
                <a:cubicBezTo>
                  <a:pt x="836" y="4232"/>
                  <a:pt x="707" y="4177"/>
                  <a:pt x="628" y="4147"/>
                </a:cubicBezTo>
                <a:cubicBezTo>
                  <a:pt x="548" y="4116"/>
                  <a:pt x="508" y="4113"/>
                  <a:pt x="451" y="4070"/>
                </a:cubicBezTo>
                <a:cubicBezTo>
                  <a:pt x="393" y="4026"/>
                  <a:pt x="313" y="3975"/>
                  <a:pt x="281" y="3886"/>
                </a:cubicBezTo>
                <a:cubicBezTo>
                  <a:pt x="248" y="3796"/>
                  <a:pt x="282" y="3605"/>
                  <a:pt x="254" y="3530"/>
                </a:cubicBezTo>
                <a:cubicBezTo>
                  <a:pt x="225" y="3454"/>
                  <a:pt x="150" y="3482"/>
                  <a:pt x="110" y="3434"/>
                </a:cubicBezTo>
                <a:cubicBezTo>
                  <a:pt x="70" y="3386"/>
                  <a:pt x="25" y="3306"/>
                  <a:pt x="14" y="3242"/>
                </a:cubicBezTo>
                <a:cubicBezTo>
                  <a:pt x="2" y="3177"/>
                  <a:pt x="17" y="3111"/>
                  <a:pt x="43" y="3047"/>
                </a:cubicBezTo>
                <a:cubicBezTo>
                  <a:pt x="68" y="2982"/>
                  <a:pt x="106" y="2910"/>
                  <a:pt x="166" y="2855"/>
                </a:cubicBezTo>
                <a:cubicBezTo>
                  <a:pt x="225" y="2799"/>
                  <a:pt x="335" y="2753"/>
                  <a:pt x="398" y="2714"/>
                </a:cubicBezTo>
                <a:cubicBezTo>
                  <a:pt x="460" y="2674"/>
                  <a:pt x="510" y="2658"/>
                  <a:pt x="542" y="2618"/>
                </a:cubicBezTo>
                <a:cubicBezTo>
                  <a:pt x="574" y="2578"/>
                  <a:pt x="610" y="2528"/>
                  <a:pt x="590" y="2474"/>
                </a:cubicBezTo>
                <a:cubicBezTo>
                  <a:pt x="569" y="2419"/>
                  <a:pt x="492" y="2333"/>
                  <a:pt x="420" y="2293"/>
                </a:cubicBezTo>
                <a:cubicBezTo>
                  <a:pt x="347" y="2252"/>
                  <a:pt x="223" y="2256"/>
                  <a:pt x="158" y="2234"/>
                </a:cubicBezTo>
                <a:cubicBezTo>
                  <a:pt x="92" y="2211"/>
                  <a:pt x="51" y="2194"/>
                  <a:pt x="28" y="2155"/>
                </a:cubicBezTo>
                <a:cubicBezTo>
                  <a:pt x="4" y="2115"/>
                  <a:pt x="0" y="2044"/>
                  <a:pt x="14" y="1994"/>
                </a:cubicBezTo>
                <a:cubicBezTo>
                  <a:pt x="27" y="1943"/>
                  <a:pt x="62" y="1898"/>
                  <a:pt x="110" y="1850"/>
                </a:cubicBezTo>
                <a:cubicBezTo>
                  <a:pt x="158" y="1802"/>
                  <a:pt x="269" y="1754"/>
                  <a:pt x="302" y="1706"/>
                </a:cubicBezTo>
                <a:cubicBezTo>
                  <a:pt x="334" y="1657"/>
                  <a:pt x="301" y="1600"/>
                  <a:pt x="302" y="1562"/>
                </a:cubicBezTo>
                <a:cubicBezTo>
                  <a:pt x="302" y="1524"/>
                  <a:pt x="287" y="1512"/>
                  <a:pt x="304" y="1478"/>
                </a:cubicBezTo>
                <a:cubicBezTo>
                  <a:pt x="320" y="1443"/>
                  <a:pt x="396" y="1396"/>
                  <a:pt x="404" y="1355"/>
                </a:cubicBezTo>
                <a:cubicBezTo>
                  <a:pt x="411" y="1314"/>
                  <a:pt x="384" y="1277"/>
                  <a:pt x="351" y="1232"/>
                </a:cubicBezTo>
                <a:cubicBezTo>
                  <a:pt x="318" y="1186"/>
                  <a:pt x="254" y="1134"/>
                  <a:pt x="206" y="1082"/>
                </a:cubicBezTo>
                <a:cubicBezTo>
                  <a:pt x="157" y="1029"/>
                  <a:pt x="89" y="979"/>
                  <a:pt x="58" y="916"/>
                </a:cubicBezTo>
                <a:cubicBezTo>
                  <a:pt x="26" y="852"/>
                  <a:pt x="13" y="774"/>
                  <a:pt x="14" y="698"/>
                </a:cubicBezTo>
                <a:cubicBezTo>
                  <a:pt x="14" y="621"/>
                  <a:pt x="38" y="529"/>
                  <a:pt x="62" y="458"/>
                </a:cubicBezTo>
                <a:cubicBezTo>
                  <a:pt x="85" y="386"/>
                  <a:pt x="118" y="321"/>
                  <a:pt x="158" y="266"/>
                </a:cubicBezTo>
                <a:cubicBezTo>
                  <a:pt x="197" y="210"/>
                  <a:pt x="237" y="155"/>
                  <a:pt x="302" y="122"/>
                </a:cubicBezTo>
                <a:cubicBezTo>
                  <a:pt x="366" y="88"/>
                  <a:pt x="455" y="71"/>
                  <a:pt x="543" y="63"/>
                </a:cubicBezTo>
                <a:cubicBezTo>
                  <a:pt x="631" y="55"/>
                  <a:pt x="750" y="48"/>
                  <a:pt x="830" y="74"/>
                </a:cubicBezTo>
                <a:cubicBezTo>
                  <a:pt x="909" y="99"/>
                  <a:pt x="974" y="162"/>
                  <a:pt x="1022" y="218"/>
                </a:cubicBezTo>
                <a:cubicBezTo>
                  <a:pt x="1070" y="274"/>
                  <a:pt x="1078" y="374"/>
                  <a:pt x="1118" y="410"/>
                </a:cubicBezTo>
                <a:cubicBezTo>
                  <a:pt x="1157" y="445"/>
                  <a:pt x="1211" y="443"/>
                  <a:pt x="1258" y="432"/>
                </a:cubicBezTo>
                <a:cubicBezTo>
                  <a:pt x="1304" y="420"/>
                  <a:pt x="1350" y="376"/>
                  <a:pt x="1397" y="340"/>
                </a:cubicBezTo>
                <a:cubicBezTo>
                  <a:pt x="1443" y="304"/>
                  <a:pt x="1479" y="223"/>
                  <a:pt x="1535" y="216"/>
                </a:cubicBezTo>
                <a:cubicBezTo>
                  <a:pt x="1590" y="208"/>
                  <a:pt x="1672" y="281"/>
                  <a:pt x="1728" y="293"/>
                </a:cubicBezTo>
                <a:cubicBezTo>
                  <a:pt x="1783" y="304"/>
                  <a:pt x="1813" y="314"/>
                  <a:pt x="1866" y="286"/>
                </a:cubicBezTo>
                <a:cubicBezTo>
                  <a:pt x="1918" y="257"/>
                  <a:pt x="1971" y="162"/>
                  <a:pt x="2043" y="124"/>
                </a:cubicBezTo>
                <a:cubicBezTo>
                  <a:pt x="2114" y="85"/>
                  <a:pt x="2243" y="63"/>
                  <a:pt x="2297" y="55"/>
                </a:cubicBezTo>
                <a:close/>
              </a:path>
            </a:pathLst>
          </a:custGeom>
          <a:solidFill>
            <a:srgbClr val="ffea18"/>
          </a:solidFill>
          <a:ln w="19080">
            <a:solidFill>
              <a:srgbClr val="3d38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5791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6F93-684B-4541-AE27-5B29086E6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2800" y="579132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4000" y="34920"/>
            <a:ext cx="9037440" cy="6773760"/>
          </a:xfrm>
          <a:custGeom>
            <a:avLst/>
            <a:gdLst/>
            <a:ahLst/>
            <a:rect l="l" t="t" r="r" b="b"/>
            <a:pathLst>
              <a:path w="5693" h="4267">
                <a:moveTo>
                  <a:pt x="2297" y="55"/>
                </a:moveTo>
                <a:cubicBezTo>
                  <a:pt x="2351" y="47"/>
                  <a:pt x="2421" y="72"/>
                  <a:pt x="2505" y="116"/>
                </a:cubicBezTo>
                <a:cubicBezTo>
                  <a:pt x="2588" y="159"/>
                  <a:pt x="2709" y="313"/>
                  <a:pt x="2798" y="314"/>
                </a:cubicBezTo>
                <a:cubicBezTo>
                  <a:pt x="2886" y="314"/>
                  <a:pt x="2974" y="153"/>
                  <a:pt x="3038" y="122"/>
                </a:cubicBezTo>
                <a:cubicBezTo>
                  <a:pt x="3101" y="90"/>
                  <a:pt x="3150" y="106"/>
                  <a:pt x="3182" y="122"/>
                </a:cubicBezTo>
                <a:cubicBezTo>
                  <a:pt x="3214" y="138"/>
                  <a:pt x="3222" y="178"/>
                  <a:pt x="3230" y="218"/>
                </a:cubicBezTo>
                <a:cubicBezTo>
                  <a:pt x="3237" y="257"/>
                  <a:pt x="3214" y="330"/>
                  <a:pt x="3230" y="362"/>
                </a:cubicBezTo>
                <a:cubicBezTo>
                  <a:pt x="3246" y="394"/>
                  <a:pt x="3294" y="410"/>
                  <a:pt x="3326" y="410"/>
                </a:cubicBezTo>
                <a:cubicBezTo>
                  <a:pt x="3358" y="410"/>
                  <a:pt x="3390" y="402"/>
                  <a:pt x="3422" y="362"/>
                </a:cubicBezTo>
                <a:cubicBezTo>
                  <a:pt x="3454" y="322"/>
                  <a:pt x="3478" y="225"/>
                  <a:pt x="3518" y="170"/>
                </a:cubicBezTo>
                <a:cubicBezTo>
                  <a:pt x="3557" y="114"/>
                  <a:pt x="3593" y="51"/>
                  <a:pt x="3662" y="26"/>
                </a:cubicBezTo>
                <a:cubicBezTo>
                  <a:pt x="3730" y="0"/>
                  <a:pt x="3859" y="2"/>
                  <a:pt x="3928" y="16"/>
                </a:cubicBezTo>
                <a:cubicBezTo>
                  <a:pt x="3996" y="29"/>
                  <a:pt x="4038" y="51"/>
                  <a:pt x="4074" y="109"/>
                </a:cubicBezTo>
                <a:cubicBezTo>
                  <a:pt x="4109" y="166"/>
                  <a:pt x="4102" y="301"/>
                  <a:pt x="4142" y="362"/>
                </a:cubicBezTo>
                <a:cubicBezTo>
                  <a:pt x="4181" y="422"/>
                  <a:pt x="4245" y="454"/>
                  <a:pt x="4312" y="470"/>
                </a:cubicBezTo>
                <a:cubicBezTo>
                  <a:pt x="4378" y="485"/>
                  <a:pt x="4483" y="480"/>
                  <a:pt x="4543" y="455"/>
                </a:cubicBezTo>
                <a:cubicBezTo>
                  <a:pt x="4602" y="429"/>
                  <a:pt x="4624" y="369"/>
                  <a:pt x="4670" y="314"/>
                </a:cubicBezTo>
                <a:cubicBezTo>
                  <a:pt x="4715" y="258"/>
                  <a:pt x="4749" y="170"/>
                  <a:pt x="4814" y="122"/>
                </a:cubicBezTo>
                <a:cubicBezTo>
                  <a:pt x="4878" y="73"/>
                  <a:pt x="4966" y="42"/>
                  <a:pt x="5054" y="26"/>
                </a:cubicBezTo>
                <a:cubicBezTo>
                  <a:pt x="5142" y="10"/>
                  <a:pt x="5254" y="2"/>
                  <a:pt x="5342" y="26"/>
                </a:cubicBezTo>
                <a:cubicBezTo>
                  <a:pt x="5430" y="50"/>
                  <a:pt x="5526" y="106"/>
                  <a:pt x="5582" y="170"/>
                </a:cubicBezTo>
                <a:cubicBezTo>
                  <a:pt x="5638" y="234"/>
                  <a:pt x="5662" y="346"/>
                  <a:pt x="5678" y="410"/>
                </a:cubicBezTo>
                <a:cubicBezTo>
                  <a:pt x="5693" y="473"/>
                  <a:pt x="5687" y="497"/>
                  <a:pt x="5678" y="554"/>
                </a:cubicBezTo>
                <a:cubicBezTo>
                  <a:pt x="5668" y="610"/>
                  <a:pt x="5644" y="691"/>
                  <a:pt x="5620" y="747"/>
                </a:cubicBezTo>
                <a:cubicBezTo>
                  <a:pt x="5596" y="803"/>
                  <a:pt x="5563" y="838"/>
                  <a:pt x="5534" y="890"/>
                </a:cubicBezTo>
                <a:cubicBezTo>
                  <a:pt x="5504" y="941"/>
                  <a:pt x="5472" y="987"/>
                  <a:pt x="5443" y="1055"/>
                </a:cubicBezTo>
                <a:cubicBezTo>
                  <a:pt x="5413" y="1122"/>
                  <a:pt x="5383" y="1226"/>
                  <a:pt x="5359" y="1293"/>
                </a:cubicBezTo>
                <a:cubicBezTo>
                  <a:pt x="5334" y="1359"/>
                  <a:pt x="5300" y="1403"/>
                  <a:pt x="5297" y="1455"/>
                </a:cubicBezTo>
                <a:cubicBezTo>
                  <a:pt x="5293" y="1506"/>
                  <a:pt x="5320" y="1559"/>
                  <a:pt x="5336" y="1601"/>
                </a:cubicBezTo>
                <a:cubicBezTo>
                  <a:pt x="5351" y="1642"/>
                  <a:pt x="5348" y="1656"/>
                  <a:pt x="5390" y="1706"/>
                </a:cubicBezTo>
                <a:cubicBezTo>
                  <a:pt x="5431" y="1755"/>
                  <a:pt x="5542" y="1842"/>
                  <a:pt x="5582" y="1898"/>
                </a:cubicBezTo>
                <a:cubicBezTo>
                  <a:pt x="5621" y="1953"/>
                  <a:pt x="5630" y="1978"/>
                  <a:pt x="5630" y="2042"/>
                </a:cubicBezTo>
                <a:cubicBezTo>
                  <a:pt x="5630" y="2106"/>
                  <a:pt x="5621" y="2218"/>
                  <a:pt x="5582" y="2282"/>
                </a:cubicBezTo>
                <a:cubicBezTo>
                  <a:pt x="5542" y="2345"/>
                  <a:pt x="5453" y="2394"/>
                  <a:pt x="5390" y="2426"/>
                </a:cubicBezTo>
                <a:cubicBezTo>
                  <a:pt x="5326" y="2457"/>
                  <a:pt x="5237" y="2450"/>
                  <a:pt x="5198" y="2474"/>
                </a:cubicBezTo>
                <a:cubicBezTo>
                  <a:pt x="5158" y="2497"/>
                  <a:pt x="5134" y="2538"/>
                  <a:pt x="5150" y="2570"/>
                </a:cubicBezTo>
                <a:cubicBezTo>
                  <a:pt x="5166" y="2602"/>
                  <a:pt x="5246" y="2626"/>
                  <a:pt x="5294" y="2666"/>
                </a:cubicBezTo>
                <a:cubicBezTo>
                  <a:pt x="5342" y="2706"/>
                  <a:pt x="5422" y="2762"/>
                  <a:pt x="5438" y="2810"/>
                </a:cubicBezTo>
                <a:cubicBezTo>
                  <a:pt x="5453" y="2857"/>
                  <a:pt x="5406" y="2922"/>
                  <a:pt x="5390" y="2954"/>
                </a:cubicBezTo>
                <a:cubicBezTo>
                  <a:pt x="5374" y="2986"/>
                  <a:pt x="5349" y="2978"/>
                  <a:pt x="5342" y="3002"/>
                </a:cubicBezTo>
                <a:cubicBezTo>
                  <a:pt x="5334" y="3025"/>
                  <a:pt x="5326" y="3058"/>
                  <a:pt x="5342" y="3098"/>
                </a:cubicBezTo>
                <a:cubicBezTo>
                  <a:pt x="5358" y="3138"/>
                  <a:pt x="5398" y="3186"/>
                  <a:pt x="5438" y="3242"/>
                </a:cubicBezTo>
                <a:cubicBezTo>
                  <a:pt x="5477" y="3297"/>
                  <a:pt x="5542" y="3370"/>
                  <a:pt x="5582" y="3434"/>
                </a:cubicBezTo>
                <a:cubicBezTo>
                  <a:pt x="5621" y="3497"/>
                  <a:pt x="5670" y="3546"/>
                  <a:pt x="5678" y="3626"/>
                </a:cubicBezTo>
                <a:cubicBezTo>
                  <a:pt x="5686" y="3706"/>
                  <a:pt x="5670" y="3834"/>
                  <a:pt x="5630" y="3914"/>
                </a:cubicBezTo>
                <a:cubicBezTo>
                  <a:pt x="5590" y="3994"/>
                  <a:pt x="5502" y="4057"/>
                  <a:pt x="5438" y="4106"/>
                </a:cubicBezTo>
                <a:cubicBezTo>
                  <a:pt x="5373" y="4154"/>
                  <a:pt x="5317" y="4178"/>
                  <a:pt x="5246" y="4202"/>
                </a:cubicBezTo>
                <a:cubicBezTo>
                  <a:pt x="5174" y="4225"/>
                  <a:pt x="5086" y="4242"/>
                  <a:pt x="5006" y="4250"/>
                </a:cubicBezTo>
                <a:cubicBezTo>
                  <a:pt x="4926" y="4258"/>
                  <a:pt x="4860" y="4256"/>
                  <a:pt x="4766" y="4250"/>
                </a:cubicBezTo>
                <a:cubicBezTo>
                  <a:pt x="4671" y="4243"/>
                  <a:pt x="4528" y="4230"/>
                  <a:pt x="4436" y="4209"/>
                </a:cubicBezTo>
                <a:cubicBezTo>
                  <a:pt x="4343" y="4188"/>
                  <a:pt x="4270" y="4170"/>
                  <a:pt x="4212" y="4124"/>
                </a:cubicBezTo>
                <a:cubicBezTo>
                  <a:pt x="4153" y="4077"/>
                  <a:pt x="4121" y="4003"/>
                  <a:pt x="4082" y="3932"/>
                </a:cubicBezTo>
                <a:cubicBezTo>
                  <a:pt x="4042" y="3860"/>
                  <a:pt x="4015" y="3700"/>
                  <a:pt x="3974" y="3693"/>
                </a:cubicBezTo>
                <a:cubicBezTo>
                  <a:pt x="3932" y="3685"/>
                  <a:pt x="3896" y="3827"/>
                  <a:pt x="3835" y="3886"/>
                </a:cubicBezTo>
                <a:cubicBezTo>
                  <a:pt x="3773" y="3944"/>
                  <a:pt x="3689" y="3995"/>
                  <a:pt x="3605" y="4047"/>
                </a:cubicBezTo>
                <a:cubicBezTo>
                  <a:pt x="3520" y="4098"/>
                  <a:pt x="3406" y="4167"/>
                  <a:pt x="3328" y="4193"/>
                </a:cubicBezTo>
                <a:cubicBezTo>
                  <a:pt x="3249" y="4218"/>
                  <a:pt x="3206" y="4216"/>
                  <a:pt x="3134" y="4202"/>
                </a:cubicBezTo>
                <a:cubicBezTo>
                  <a:pt x="3061" y="4187"/>
                  <a:pt x="2966" y="4138"/>
                  <a:pt x="2894" y="4106"/>
                </a:cubicBezTo>
                <a:cubicBezTo>
                  <a:pt x="2821" y="4073"/>
                  <a:pt x="2757" y="4029"/>
                  <a:pt x="2702" y="4010"/>
                </a:cubicBezTo>
                <a:cubicBezTo>
                  <a:pt x="2646" y="3990"/>
                  <a:pt x="2610" y="3973"/>
                  <a:pt x="2558" y="3986"/>
                </a:cubicBezTo>
                <a:cubicBezTo>
                  <a:pt x="2505" y="3998"/>
                  <a:pt x="2463" y="4066"/>
                  <a:pt x="2389" y="4086"/>
                </a:cubicBezTo>
                <a:cubicBezTo>
                  <a:pt x="2314" y="4105"/>
                  <a:pt x="2187" y="4121"/>
                  <a:pt x="2112" y="4101"/>
                </a:cubicBezTo>
                <a:cubicBezTo>
                  <a:pt x="2036" y="4080"/>
                  <a:pt x="2008" y="3990"/>
                  <a:pt x="1934" y="3962"/>
                </a:cubicBezTo>
                <a:cubicBezTo>
                  <a:pt x="1859" y="3933"/>
                  <a:pt x="1738" y="3924"/>
                  <a:pt x="1666" y="3932"/>
                </a:cubicBezTo>
                <a:cubicBezTo>
                  <a:pt x="1594" y="3940"/>
                  <a:pt x="1553" y="3973"/>
                  <a:pt x="1502" y="4010"/>
                </a:cubicBezTo>
                <a:cubicBezTo>
                  <a:pt x="1450" y="4046"/>
                  <a:pt x="1413" y="4114"/>
                  <a:pt x="1358" y="4154"/>
                </a:cubicBezTo>
                <a:cubicBezTo>
                  <a:pt x="1302" y="4193"/>
                  <a:pt x="1238" y="4234"/>
                  <a:pt x="1166" y="4250"/>
                </a:cubicBezTo>
                <a:cubicBezTo>
                  <a:pt x="1094" y="4266"/>
                  <a:pt x="1015" y="4267"/>
                  <a:pt x="926" y="4250"/>
                </a:cubicBezTo>
                <a:cubicBezTo>
                  <a:pt x="836" y="4232"/>
                  <a:pt x="707" y="4177"/>
                  <a:pt x="628" y="4147"/>
                </a:cubicBezTo>
                <a:cubicBezTo>
                  <a:pt x="548" y="4116"/>
                  <a:pt x="508" y="4113"/>
                  <a:pt x="451" y="4070"/>
                </a:cubicBezTo>
                <a:cubicBezTo>
                  <a:pt x="393" y="4026"/>
                  <a:pt x="313" y="3975"/>
                  <a:pt x="281" y="3886"/>
                </a:cubicBezTo>
                <a:cubicBezTo>
                  <a:pt x="248" y="3796"/>
                  <a:pt x="282" y="3605"/>
                  <a:pt x="254" y="3530"/>
                </a:cubicBezTo>
                <a:cubicBezTo>
                  <a:pt x="225" y="3454"/>
                  <a:pt x="150" y="3482"/>
                  <a:pt x="110" y="3434"/>
                </a:cubicBezTo>
                <a:cubicBezTo>
                  <a:pt x="70" y="3386"/>
                  <a:pt x="25" y="3306"/>
                  <a:pt x="14" y="3242"/>
                </a:cubicBezTo>
                <a:cubicBezTo>
                  <a:pt x="2" y="3177"/>
                  <a:pt x="17" y="3111"/>
                  <a:pt x="43" y="3047"/>
                </a:cubicBezTo>
                <a:cubicBezTo>
                  <a:pt x="68" y="2982"/>
                  <a:pt x="106" y="2910"/>
                  <a:pt x="166" y="2855"/>
                </a:cubicBezTo>
                <a:cubicBezTo>
                  <a:pt x="225" y="2799"/>
                  <a:pt x="335" y="2753"/>
                  <a:pt x="398" y="2714"/>
                </a:cubicBezTo>
                <a:cubicBezTo>
                  <a:pt x="460" y="2674"/>
                  <a:pt x="510" y="2658"/>
                  <a:pt x="542" y="2618"/>
                </a:cubicBezTo>
                <a:cubicBezTo>
                  <a:pt x="574" y="2578"/>
                  <a:pt x="610" y="2528"/>
                  <a:pt x="590" y="2474"/>
                </a:cubicBezTo>
                <a:cubicBezTo>
                  <a:pt x="569" y="2419"/>
                  <a:pt x="492" y="2333"/>
                  <a:pt x="420" y="2293"/>
                </a:cubicBezTo>
                <a:cubicBezTo>
                  <a:pt x="347" y="2252"/>
                  <a:pt x="223" y="2256"/>
                  <a:pt x="158" y="2234"/>
                </a:cubicBezTo>
                <a:cubicBezTo>
                  <a:pt x="92" y="2211"/>
                  <a:pt x="51" y="2194"/>
                  <a:pt x="28" y="2155"/>
                </a:cubicBezTo>
                <a:cubicBezTo>
                  <a:pt x="4" y="2115"/>
                  <a:pt x="0" y="2044"/>
                  <a:pt x="14" y="1994"/>
                </a:cubicBezTo>
                <a:cubicBezTo>
                  <a:pt x="27" y="1943"/>
                  <a:pt x="62" y="1898"/>
                  <a:pt x="110" y="1850"/>
                </a:cubicBezTo>
                <a:cubicBezTo>
                  <a:pt x="158" y="1802"/>
                  <a:pt x="269" y="1754"/>
                  <a:pt x="302" y="1706"/>
                </a:cubicBezTo>
                <a:cubicBezTo>
                  <a:pt x="334" y="1657"/>
                  <a:pt x="301" y="1600"/>
                  <a:pt x="302" y="1562"/>
                </a:cubicBezTo>
                <a:cubicBezTo>
                  <a:pt x="302" y="1524"/>
                  <a:pt x="287" y="1512"/>
                  <a:pt x="304" y="1478"/>
                </a:cubicBezTo>
                <a:cubicBezTo>
                  <a:pt x="320" y="1443"/>
                  <a:pt x="396" y="1396"/>
                  <a:pt x="404" y="1355"/>
                </a:cubicBezTo>
                <a:cubicBezTo>
                  <a:pt x="411" y="1314"/>
                  <a:pt x="384" y="1277"/>
                  <a:pt x="351" y="1232"/>
                </a:cubicBezTo>
                <a:cubicBezTo>
                  <a:pt x="318" y="1186"/>
                  <a:pt x="254" y="1134"/>
                  <a:pt x="206" y="1082"/>
                </a:cubicBezTo>
                <a:cubicBezTo>
                  <a:pt x="157" y="1029"/>
                  <a:pt x="89" y="979"/>
                  <a:pt x="58" y="916"/>
                </a:cubicBezTo>
                <a:cubicBezTo>
                  <a:pt x="26" y="852"/>
                  <a:pt x="13" y="774"/>
                  <a:pt x="14" y="698"/>
                </a:cubicBezTo>
                <a:cubicBezTo>
                  <a:pt x="14" y="621"/>
                  <a:pt x="38" y="529"/>
                  <a:pt x="62" y="458"/>
                </a:cubicBezTo>
                <a:cubicBezTo>
                  <a:pt x="85" y="386"/>
                  <a:pt x="118" y="321"/>
                  <a:pt x="158" y="266"/>
                </a:cubicBezTo>
                <a:cubicBezTo>
                  <a:pt x="197" y="210"/>
                  <a:pt x="237" y="155"/>
                  <a:pt x="302" y="122"/>
                </a:cubicBezTo>
                <a:cubicBezTo>
                  <a:pt x="366" y="88"/>
                  <a:pt x="455" y="71"/>
                  <a:pt x="543" y="63"/>
                </a:cubicBezTo>
                <a:cubicBezTo>
                  <a:pt x="631" y="55"/>
                  <a:pt x="750" y="48"/>
                  <a:pt x="830" y="74"/>
                </a:cubicBezTo>
                <a:cubicBezTo>
                  <a:pt x="909" y="99"/>
                  <a:pt x="974" y="162"/>
                  <a:pt x="1022" y="218"/>
                </a:cubicBezTo>
                <a:cubicBezTo>
                  <a:pt x="1070" y="274"/>
                  <a:pt x="1078" y="374"/>
                  <a:pt x="1118" y="410"/>
                </a:cubicBezTo>
                <a:cubicBezTo>
                  <a:pt x="1157" y="445"/>
                  <a:pt x="1211" y="443"/>
                  <a:pt x="1258" y="432"/>
                </a:cubicBezTo>
                <a:cubicBezTo>
                  <a:pt x="1304" y="420"/>
                  <a:pt x="1350" y="376"/>
                  <a:pt x="1397" y="340"/>
                </a:cubicBezTo>
                <a:cubicBezTo>
                  <a:pt x="1443" y="304"/>
                  <a:pt x="1479" y="223"/>
                  <a:pt x="1535" y="216"/>
                </a:cubicBezTo>
                <a:cubicBezTo>
                  <a:pt x="1590" y="208"/>
                  <a:pt x="1672" y="281"/>
                  <a:pt x="1728" y="293"/>
                </a:cubicBezTo>
                <a:cubicBezTo>
                  <a:pt x="1783" y="304"/>
                  <a:pt x="1813" y="314"/>
                  <a:pt x="1866" y="286"/>
                </a:cubicBezTo>
                <a:cubicBezTo>
                  <a:pt x="1918" y="257"/>
                  <a:pt x="1971" y="162"/>
                  <a:pt x="2043" y="124"/>
                </a:cubicBezTo>
                <a:cubicBezTo>
                  <a:pt x="2114" y="85"/>
                  <a:pt x="2243" y="63"/>
                  <a:pt x="2297" y="55"/>
                </a:cubicBezTo>
                <a:close/>
              </a:path>
            </a:pathLst>
          </a:custGeom>
          <a:solidFill>
            <a:srgbClr val="ffea18"/>
          </a:solidFill>
          <a:ln w="19080">
            <a:solidFill>
              <a:srgbClr val="3d38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2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578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5783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578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5773-780D-4464-8609-9B826905A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Part 3: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Blood Sp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124080" y="3352680"/>
            <a:ext cx="2959200" cy="197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DBCB8-2993-4477-BE99-51216AB8F6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st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stains caused by contact between a wet blood-bearing surface and a second surface which may or may not have blood o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f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image is recognizable and may be identifiable with a particular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i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t blood is transferred to a surface which did not have blood on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on-blood bearing object moves through a wet bloodstain, altering the appearance of the original st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29E13-85C6-4983-A055-BCEDE04BE0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ion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s to the direction a drop of blood traveled in space from its point of orig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inal 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est speed to which a free falling drop of blood can accelerate in air. It is dependent upon the acceleration of gravity and the friction of the air against the bl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25.1 feet/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than 25 feet per second, usually 100 feet per second; gives a fine mist appea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to 25 feet per 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feet per second or 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C75A8-D630-45E8-9B12-29F6DEE179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shape of a blood dro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falls straight down at a 90 degree 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lipt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droplets elongate as the angle decreases from 90 to 0 degrees; the angle can be determined by the following formu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441972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7920" y="4495680"/>
          <a:ext cx="6248160" cy="10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495680"/>
                    <a:ext cx="624816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BB814-E538-4EFA-8ABE-0E43AF81D7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acute the angle of impact, the more elongated the st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 degree angles are perfectly round drops with 80 degree angles taking on a more elliptical sha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about 30 degrees the stain will begin to produce a ta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acute the angle, the easier it is to determine the direction of tra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 rot="11400">
            <a:off x="6095880" y="1218960"/>
            <a:ext cx="1905120" cy="1269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1828800" cy="274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74716-321D-4B0A-AB84-B7A8067A5A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Effects of the Angle of Impact on Blood D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52480" y="4524120"/>
            <a:ext cx="64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drop on the left fell 42 inches at an angle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60-degree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on to hard smooth cardboard, while the drop on the right fell the same 42 inches and on to the same surface, but at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10-degree angl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514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60 degree 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2514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0 degree 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61725-A8B5-4034-8ED5-D5EC47E6BF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arder and less porous the surface, the less the blood drop will break ap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fter and more porous the surface, the more a blood drop will break ap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inted end of the blood stain faces the direction of tra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486400" y="1981080"/>
            <a:ext cx="2535120" cy="3429000"/>
            <a:chOff x="5486400" y="1981080"/>
            <a:chExt cx="2535120" cy="342900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5486400" y="1981080"/>
              <a:ext cx="25351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 txBox="1"/>
            <p:nvPr/>
          </p:nvSpPr>
          <p:spPr>
            <a:xfrm>
              <a:off x="5486400" y="1981080"/>
              <a:ext cx="2535120" cy="3429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0000"/>
                </a:buClr>
                <a:buFont typeface="Wingdings" charset="2"/>
                <a:buChar char="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49DBF-E3DF-41BD-A927-978AF6BD5F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ea of Intersec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d Conver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05320" y="2133720"/>
            <a:ext cx="4952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ocation of the blood source can be determined by drawing lines from the various blood droplets to the point where they intersec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rea of convergence is the point of origin; the spot where the “blow” occurred. It may be established at the scene with measurement of angles by use of string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2554200" cy="3581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09680" y="4419720"/>
            <a:ext cx="53352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52276-7636-4B6C-99A8-D2C51B3C41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Spatter Evid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s with the physical properties of blood and the patterns made under different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, as a fluid, follows the laws of physic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893880"/>
            <a:ext cx="7239240" cy="32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99023-B26A-4C70-8D54-5B1F82D7C727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Droplet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ood droplet will remain spherical in space until it collides with a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 blood droplet impacts a surface, a bloodstain is for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4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roplet falling from the same height, hitting the same surface at the same angle, will produce a stain with the same basic sha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1ABCF-8C65-4E52-8A4E-168EA87CB9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 Droplet Vol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roplet contains approximately 0.05 cc of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t the same for all blood droplets, but is generally from 0.03 cc to 0.15 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irectly dependent upon the surface or orifice from which it orig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act area is called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C3C94-B4C1-4FCC-B4D2-582D480570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ditions Affec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Shape of Blood Drop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of the dro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 of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at which the blood droplet left its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 of the target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clean glass or pla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let will have smooth outside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 rough surf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produce scalloping on the ed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50B70-2B4F-4191-8F43-4ABD1D4DF9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Spatter example 2"/>
          <p:cNvPicPr/>
          <p:nvPr/>
        </p:nvPicPr>
        <p:blipFill>
          <a:blip r:embed="rId1"/>
          <a:stretch/>
        </p:blipFill>
        <p:spPr>
          <a:xfrm>
            <a:off x="1981080" y="1981080"/>
            <a:ext cx="1524240" cy="2210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Spatter example 2b"/>
          <p:cNvPicPr/>
          <p:nvPr/>
        </p:nvPicPr>
        <p:blipFill>
          <a:blip r:embed="rId2"/>
          <a:stretch/>
        </p:blipFill>
        <p:spPr>
          <a:xfrm>
            <a:off x="5791320" y="1981080"/>
            <a:ext cx="1481040" cy="2210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52480" y="533412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457164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blood drop at the left struck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plastic wall til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falling again from 42 inches. On the right, the drop fell from the same distance on to a piece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heavy, unusual textured wallpap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6858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Effects of Surface Texture on Blood D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09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lastic wall 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2209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extured wall pa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3F1DB-87DD-42FE-97AE-6A09EAF733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 Answered b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Spatter Interpre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istance between the target surface and the origin of bl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int(s) of origin of the bl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ement and direction of a person or an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mber of blows, shots, etc. causing the bloodshed and/or the dispersal of bloo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43CDD-EB2B-4F95-B37F-CBE24D6F94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 Answered b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Spatter Interpre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 and direction of impact that produced the blood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sition of the victim and/or object during blood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ement of the victim and/or object after blood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B1226-8059-46C7-8805-C33F2C77B7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le of imp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 at which blood strikes a target su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odstain trans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bloody object comes into contact with a surface and leaves a patterned blood image on the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pa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that is directed back toward the source of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t-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that is thrown from an object in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0ADED-6594-4611-A871-D2A6C0EE6C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22:21:34Z</dcterms:created>
  <dc:creator>Barb Weekley</dc:creator>
  <dc:description/>
  <dc:language>en-US</dc:language>
  <cp:lastModifiedBy>Preferred Customer</cp:lastModifiedBy>
  <dcterms:modified xsi:type="dcterms:W3CDTF">2009-02-28T14:17:39Z</dcterms:modified>
  <cp:revision>170</cp:revision>
  <dc:subject/>
  <dc:title>FORENSIC SCIENCE Serology</dc:title>
</cp:coreProperties>
</file>